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ACA6-FE1C-4D25-B9B0-5DECBB583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246B-7943-4A7F-AA3E-EE1F309F3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819A-2274-468F-A492-910EBF2CF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6A4C-C543-4D93-A26A-7827E0B9C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90C2-28D7-4014-91D6-D969F01FF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EEFD-632C-4FEF-88AE-8E50106A5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929F-7436-4E5B-9046-3C67DFB53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7656-23B0-4E0B-BD29-3499E871A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EBBB-AB44-42B2-BC93-0C18324E4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C14E-0A16-4100-9F50-1E85F198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452F-15DD-4D75-A6EA-C6FB5487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4080-F31D-44FF-AAC0-DBDAA9B6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7906E-776A-488D-8869-0553F6AFACD0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752480"/>
            <a:ext cx="6400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لثال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Andalus"/>
              </a:rPr>
              <a:t>تطوير التقارير المالي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9F05-3B51-452E-9FD2-12C8EBC79A68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1466640"/>
            <a:ext cx="8153280" cy="1143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عن للعامل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3295800"/>
            <a:ext cx="792504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معلومات عن العاملين وأعدادهم وأعمارهم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2DB0-4B42-4C08-B88B-05A34C1F4C6A}" type="slidenum">
              <a:t>10</a:t>
            </a:fld>
          </a:p>
        </p:txBody>
      </p:sp>
    </p:spTree>
  </p:cSld>
  <p:transition>
    <p:random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153792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عن الموارد البش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3367080"/>
            <a:ext cx="784872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معلومات مالية عن تكلفة اختيار وتعيين وتدريب العامل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660A-731B-4857-AF30-FA458CF0EFD3}" type="slidenum">
              <a:t>11</a:t>
            </a:fld>
          </a:p>
        </p:txBody>
      </p:sp>
    </p:spTree>
  </p:cSld>
  <p:transition>
    <p:random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160920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الاجتما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3438360"/>
            <a:ext cx="7925040" cy="2438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لبيان كل من نفقات وعوائد المشروعات الاجتماعية وحماية البيئ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00FA-E091-4494-9F4E-23F35642C966}" type="slidenum">
              <a:t>12</a:t>
            </a:fld>
          </a:p>
        </p:txBody>
      </p:sp>
    </p:spTree>
  </p:cSld>
  <p:transition>
    <p:random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145692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بالقيمة المضا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3438360"/>
            <a:ext cx="7848720" cy="2438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لبيان مدى مساهمة كل عامل من عوامل الانتاج في الدخل المحق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91320" y="6237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34EA-3EEC-4CEE-9550-718DEC3ECEC9}" type="slidenum">
              <a:t>13</a:t>
            </a:fld>
          </a:p>
        </p:txBody>
      </p:sp>
    </p:spTree>
  </p:cSld>
  <p:transition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785160" y="2242440"/>
            <a:ext cx="7488000" cy="38973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طورت التقارير المالية من حيث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كمية المعلوم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نوع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طريقة عرض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الحد الادنى الضروري من المعلومات التي يجب الإفصا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   عنها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765000"/>
            <a:ext cx="7705440" cy="1079640"/>
          </a:xfrm>
          <a:prstGeom prst="bevel">
            <a:avLst>
              <a:gd name="adj" fmla="val 2644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طور التقارير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6345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DAC0-FA1A-478B-86FE-9798BCCE54F5}" type="slidenum">
              <a:t>2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792468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لماذا ظهرت الدعوة إلى تطوير التقارير المالية؟؟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1760" y="3352320"/>
            <a:ext cx="7848360" cy="18766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ffffff"/>
              </a:gs>
              <a:gs pos="100000">
                <a:srgbClr val="b2b2b2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لعدم وفاء التقارير المالية بشكلها الحالي باحتياجات المستفيدين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CA00-3D7E-4616-A4F2-0826249D84F9}" type="slidenum">
              <a:t>3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32040"/>
            <a:ext cx="7772400" cy="768240"/>
          </a:xfrm>
          <a:prstGeom prst="rect">
            <a:avLst/>
          </a:prstGeom>
          <a:gradFill rotWithShape="0">
            <a:gsLst>
              <a:gs pos="0">
                <a:srgbClr val="c5ffc5"/>
              </a:gs>
              <a:gs pos="50000">
                <a:srgbClr val="ffffff"/>
              </a:gs>
              <a:gs pos="100000">
                <a:srgbClr val="c5ffc5"/>
              </a:gs>
            </a:gsLst>
            <a:lin ang="5400000"/>
          </a:gra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ا هي مظاهر هذا التطور؟؟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43040" y="2000160"/>
            <a:ext cx="7772400" cy="4172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القطاع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متعددة الأغراض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الدورية (الفترية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المستقبل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الموجز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للعاملي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عن الموارد البشر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حاسبة الاجتماع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Tahoma"/>
              </a:rPr>
              <a:t>القوائم المالية بالقيمة المضاف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91320" y="63453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2597-830B-4B5A-B71F-B1FDD1DC5BB5}" type="slidenum">
              <a:t>4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153792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القطا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3367080"/>
            <a:ext cx="822960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الافصاح حسب الانتاج أو المناطق الجغراف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C4D5-155E-4BC6-A6FC-D816648BA0E1}" type="slidenum">
              <a:t>5</a:t>
            </a:fld>
          </a:p>
        </p:txBody>
      </p:sp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1820520"/>
            <a:ext cx="81532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متعددة الاغرا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3438360"/>
            <a:ext cx="8001000" cy="2438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عدة طرق مثل تكلفة الاحلال أو الجا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8C59-7D92-44E5-A11E-B1A81F27DABE}" type="slidenum">
              <a:t>6</a:t>
            </a:fld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37920"/>
            <a:ext cx="7848720" cy="1143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الدورية (الفترية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3367080"/>
            <a:ext cx="784872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ahoma"/>
                <a:cs typeface="PT Bold Heading"/>
              </a:rPr>
              <a:t>لفترات قصيرة ربع سنوية مثل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EF97-90F9-4F6B-A8AC-80B4AC8CE0BE}" type="slidenum">
              <a:t>7</a:t>
            </a:fld>
          </a:p>
        </p:txBody>
      </p:sp>
    </p:spTree>
  </p:cSld>
  <p:transition>
    <p:random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1537920"/>
            <a:ext cx="79246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المستقبل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3367080"/>
            <a:ext cx="815364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قوائم معتمدة على تنبؤات مستقب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7684-DFBA-4A28-88DA-B69553816508}" type="slidenum">
              <a:t>8</a:t>
            </a:fld>
          </a:p>
        </p:txBody>
      </p:sp>
    </p:spTree>
  </p:cSld>
  <p:transition>
    <p:random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1142640"/>
            <a:ext cx="792468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الموجز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2971800"/>
            <a:ext cx="7848720" cy="2438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ahoma"/>
                <a:cs typeface="PT Bold Heading"/>
              </a:rPr>
              <a:t>المختصر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59280" y="260280"/>
            <a:ext cx="39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لث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تطوير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BD49-B36B-4B5B-964B-EFC990638BCF}" type="slidenum">
              <a:t>9</a:t>
            </a:fld>
          </a:p>
        </p:txBody>
      </p:sp>
    </p:spTree>
  </p:cSld>
  <p:transition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****</cp:lastModifiedBy>
  <dcterms:modified xsi:type="dcterms:W3CDTF">2003-12-07T21:54:19Z</dcterms:modified>
  <cp:revision>28</cp:revision>
  <dc:subject/>
  <dc:title>التحليل المالي والائتماني</dc:title>
</cp:coreProperties>
</file>